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D8085-A2BD-4307-A5D6-25DC871B4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F9D49-AB28-4524-95E4-40AC4FC0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8164D-7378-4ABD-8E43-B2B87A900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F0A74-75AA-4913-BB46-481DABB49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1E625-DB7D-4BB5-9DF3-1DD364BB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97583-4C8E-4E41-9448-3AC0BD5F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CB695-AD4F-4699-8F4F-7EEEA58E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B3AA5-4F04-4887-B859-614CC197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165BC-2283-4083-97EB-188529BD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5F10C-AC6F-4792-A029-26E61891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B48F3-D339-4EDF-8A21-77AE139E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A2329-B048-4070-B62D-B5FDD48D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73e8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5bd0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a5d0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f5c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073e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986A-6DC5-4DB5-9F3C-03C31A36BB86}" type="slidenum">
              <a:rPr b="0" lang="en-GB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c6e7f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6e7fc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-andrews.ac.uk/intrel/css/publications/thestandrewspapersoncontemporarysyria/" TargetMode="External"/><Relationship Id="rId2" Type="http://schemas.openxmlformats.org/officeDocument/2006/relationships/hyperlink" Target="http://www.st-andrews.ac.uk/intrel/css/publications/thestandrewspapersoncontemporarysyria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3e87"/>
                </a:solidFill>
                <a:latin typeface="Cambria"/>
              </a:rPr>
              <a:t>Dealing with editors</a:t>
            </a:r>
            <a:endParaRPr b="0" lang="en-US" sz="6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eter Philimo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7000920" y="109440"/>
            <a:ext cx="2093760" cy="148140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4"/>
          <p:cNvGrpSpPr/>
          <p:nvPr/>
        </p:nvGrpSpPr>
        <p:grpSpPr>
          <a:xfrm>
            <a:off x="0" y="311040"/>
            <a:ext cx="1606680" cy="530280"/>
            <a:chOff x="0" y="311040"/>
            <a:chExt cx="1606680" cy="530280"/>
          </a:xfrm>
        </p:grpSpPr>
        <p:pic>
          <p:nvPicPr>
            <p:cNvPr id="47" name="Picture 5" descr="http://research.ncl.ac.uk/media/sites/researchwebsites/rescapmed/EUlogo.jpg"/>
            <p:cNvPicPr/>
            <p:nvPr/>
          </p:nvPicPr>
          <p:blipFill>
            <a:blip r:embed="rId2"/>
            <a:stretch/>
          </p:blipFill>
          <p:spPr>
            <a:xfrm>
              <a:off x="0" y="311040"/>
              <a:ext cx="81144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6" descr="http://research.ncl.ac.uk/media/sites/researchwebsites/rescapmed/FP7logo2.jpg"/>
            <p:cNvPicPr/>
            <p:nvPr/>
          </p:nvPicPr>
          <p:blipFill>
            <a:blip r:embed="rId3"/>
            <a:stretch/>
          </p:blipFill>
          <p:spPr>
            <a:xfrm>
              <a:off x="958680" y="315720"/>
              <a:ext cx="648000" cy="525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Copy Editor and Proofs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Very short deadl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be time-consu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inimise by preparing text adhering to journal guidel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be excellent, or a probl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o check, and re-read the script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You don’t want bits missed or misrepresen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s with editors, try and communicate directly with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073e87"/>
                </a:solidFill>
                <a:latin typeface="Cambria"/>
              </a:rPr>
              <a:t>Dealing with Editors</a:t>
            </a: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utho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lecting an appropriate journ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ver letter to Ed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lagiar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vising: responding to referees’ criticis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Your second letter to the Ed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py Editor and Proof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Authorship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eciding on who counts as auth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riteria for inclu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uthorship or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o will lead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ivision of lab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tting timet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Your responsibilities as lead auth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Selecting the right journal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11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here are many choices, so…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Make a list of possibilities, the pro and cons, and an order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425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Try x first (why?); try Y second (why?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Which audiences are you trying to reach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o you want to aim high or get your paper published rapidly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Might you want to reach audiences in several field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425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The pros and cons of interdisciplinary journal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34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80ff"/>
                </a:solidFill>
                <a:uFillTx/>
                <a:latin typeface="Calibri"/>
                <a:hlinkClick r:id="rId1"/>
              </a:rPr>
              <a:t>http://www.st-andrews.ac.uk/intrel/css/publications/thestandrewspapersoncontemporarysyria</a:t>
            </a:r>
            <a:r>
              <a:rPr b="0" lang="en-GB" sz="1400" spc="-1" strike="noStrike" u="sng">
                <a:solidFill>
                  <a:srgbClr val="0080ff"/>
                </a:solidFill>
                <a:uFillTx/>
                <a:latin typeface="Calibri"/>
                <a:hlinkClick r:id="rId2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425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How important is the Impact factor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oes Impact factor always reflect journal statu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Cover letter to the Editor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letter may be crucial!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ke the editor WANT this paper!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ry to ensure that the Editor doesn’t read and reject without even sending to review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how that you know this journa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xplain how your article is (a) appropriate in this journal and (b) offers something n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t don’t overstate claims you make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ddress the editor by na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Avoiding any suspicion of plagiarism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arely a problem but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lways be scrupulous in your referencing – regarding both data and argu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lways insure you are using your own words and sty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vising 1: </a:t>
            </a:r>
            <a:br>
              <a:rPr sz="3600"/>
            </a:b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sponding to referees’ criticisms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Likely respon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Accepted but asking for minor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Potential acceptance after mor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Revise and resubmit (no guarante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Rej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jection without reviewers’ comments gives you no guid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jection with reviewers comments may be very usefu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vising 2: </a:t>
            </a:r>
            <a:br>
              <a:rPr sz="3600"/>
            </a:b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sponding to referees’ criticisms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2-4 reviewers, then order their comme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Sort major from less signific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Helpful: the comments which help you develop your analysi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ricky 1: the comments which highlight your lack of data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ricky 2: the comments which require space you don’t hav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Wrong: the comments which misunderstand your articl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dentify further reading or analysis you need to 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t a timetable and involve your co-auth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ivision of labou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member to check that the revisions are reflected in the Abstr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Your second letter to the Editor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letter is even more important than the fir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You have to convince the editor you have taken reviewers criticisms serious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does not mean you have to agree with every critic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ut you must not give the impression you have been selective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to do if reviewers ask for contradictory thing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eking clarification from the ed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Your letter makes the overall case defending your judgement and decis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5T17:56:56Z</dcterms:created>
  <dc:creator>PeterP</dc:creator>
  <dc:description/>
  <dc:language>en-US</dc:language>
  <cp:lastModifiedBy>Licenced User</cp:lastModifiedBy>
  <dcterms:modified xsi:type="dcterms:W3CDTF">2014-09-18T15:31:39Z</dcterms:modified>
  <cp:revision>15</cp:revision>
  <dc:subject/>
  <dc:title>PowerPoint Presentation</dc:title>
</cp:coreProperties>
</file>